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F3E7-9B57-45C7-BEE5-A50524855B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onflicts with the previous slide - it says that members choose to participate - this one states all must particip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071-8C4B-4661-8618-5472E91E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1B2-907C-4623-AA2F-CE92E166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055-BF7B-4B86-92D8-6D4DFDEA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E15-E231-48EB-9259-41C1DE1E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2A49-5CAF-4901-B1E7-2EB768EC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9BDB-A114-4B4F-8B67-FA4297DD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F957-1168-4D16-893C-2A5EB65E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F367-799C-452E-AB5C-1F1F6E53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A132-EF7A-4312-9DB3-C2DDBD96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09B8-2042-4FF0-AFC8-280D50C0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F017-8152-4C6E-B2B0-951632B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E13-EBAF-43DE-8755-ED68199F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1BAA-C7C4-430B-B02F-AA510A7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07B0-7271-42E4-84E4-47152FAB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1EEC-806E-4A53-BACA-1B92DEC5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5990-244A-484D-896B-A210A260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C841-83B2-4842-B7ED-3FB1DEA4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9D5-D10C-4F66-AA9B-51A7BAAD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3DC-ABC3-4BA3-A346-94BF7190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685-D40B-4007-A62F-B6240B44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340-B953-4FFB-82B3-8AF2574F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D2A-F21E-4A9F-9A7C-A89A3626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3B9-E45B-432B-8AB9-1EF0E3DC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6F7-2479-47DE-AF17-F983C5B6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2FD4-D050-4B04-8FB1-585141152D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0AC5-26D9-4B4C-B643-A5D50B911E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 Group Names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eachers are sitting in the teachers’ lounge during their conference period and having a powerful discussion on a new Special Education student in their classrooms who has moved in from another district and is presenting behavior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grade team plans a unit around Dr. Seuss with the common expectation that students will orally report on their favorite Dr Seuss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eachers discussing how Math is taught across the traditional structural boundaries of grade level and subject matter with a common goal of improving number sense in all students at the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1640" y="5335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felt alone as a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level of intellectual interaction among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not require teachers to share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video on this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tual learning and discussion of classroom pract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 of studen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lesson p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id in providing consistent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913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 decision making to resolve problems of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built around communal experience and interests of all school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focus on student 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Build 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are exposed to how thing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’ work is tied to meaningfu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bers choose to particip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include all members of the faculty and sta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must be set a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must have support and encouragement to become st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4:01:25Z</dcterms:created>
  <dc:creator>Paul Pabian</dc:creator>
  <dc:description/>
  <dc:language>en-US</dc:language>
  <cp:lastModifiedBy>Paul Pabian</cp:lastModifiedBy>
  <dcterms:modified xsi:type="dcterms:W3CDTF">2007-02-05T03:33:21Z</dcterms:modified>
  <cp:revision>4</cp:revision>
  <dc:subject/>
  <dc:title>The 3 C’s</dc:title>
</cp:coreProperties>
</file>